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A26-4FED-4916-879B-3726BC2F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3D1-5624-4518-BFAD-716F989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5CD-01BD-4EEB-83E6-68FE15F3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35E-359A-4FED-B507-1CA98C9D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76939-FA22-4EB2-B45A-CB4EEA3B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791C9-C368-41DA-8083-A5958F9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88E3-7940-4A2C-AF0F-CCFAD87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72894-C219-41E5-AC7D-2B72CFB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F4446-3A18-40FD-B24B-C474CAB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EAEAE-0FF5-4D98-8AAD-9B3C89F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3FF0-BA1E-4E86-B9AA-A417E46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FA9-4DEF-464A-9133-DDF2DEC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7034F-FDA7-414D-B0B6-8C8F5C6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260F-4BDC-4DB3-8979-782A47E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3BAC-FAED-47F7-B255-9456E82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2517-D9B2-4ACB-8485-1AB76BAB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0304C-B8AC-4C13-861C-CB4EC158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9F3-7135-42B6-B6E2-3036665C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087-7EE5-4768-9619-4729364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882-3F88-45D4-8ECD-F928E8FC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53C-E3FB-4459-866B-9F17A4A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0E3-53ED-4FD4-8CAE-0D5830F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232-0A52-48FD-ABC1-8956095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452-F20F-4A7F-A7ED-CD2996C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9E9-E760-4C11-8D38-D88549C5F6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6CDB-7A70-4D93-B3ED-98397EE305D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3e3ff"/>
                </a:solidFill>
                <a:latin typeface="Arial"/>
              </a:rPr>
              <a:t>E</a:t>
            </a:r>
            <a:r>
              <a:rPr b="0" lang="cs-CZ" sz="4800" spc="-1" strike="noStrike">
                <a:solidFill>
                  <a:srgbClr val="e3e3ff"/>
                </a:solidFill>
                <a:latin typeface="Arial"/>
              </a:rPr>
              <a:t>lektro</a:t>
            </a:r>
            <a:br>
              <a:rPr sz="4800"/>
            </a:br>
            <a:r>
              <a:rPr b="1" lang="cs-CZ" sz="6000" spc="-1" strike="noStrike">
                <a:solidFill>
                  <a:srgbClr val="e3e3ff"/>
                </a:solidFill>
                <a:latin typeface="Arial"/>
              </a:rPr>
              <a:t>R</a:t>
            </a:r>
            <a:r>
              <a:rPr b="0" lang="cs-CZ" sz="4800" spc="-1" strike="noStrike">
                <a:solidFill>
                  <a:srgbClr val="e3e3ff"/>
                </a:solidFill>
                <a:latin typeface="Arial"/>
              </a:rPr>
              <a:t>ekonstrukce</a:t>
            </a:r>
            <a:br>
              <a:rPr sz="4800"/>
            </a:br>
            <a:r>
              <a:rPr b="1" lang="cs-CZ" sz="60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0" lang="cs-CZ" sz="4800" spc="-1" strike="noStrike">
                <a:solidFill>
                  <a:srgbClr val="e3e3ff"/>
                </a:solidFill>
                <a:latin typeface="Arial"/>
              </a:rPr>
              <a:t>ové</a:t>
            </a:r>
            <a:br>
              <a:rPr sz="4800"/>
            </a:br>
            <a:r>
              <a:rPr b="1" lang="cs-CZ" sz="6000" spc="-1" strike="noStrike">
                <a:solidFill>
                  <a:srgbClr val="e3e3ff"/>
                </a:solidFill>
                <a:latin typeface="Arial"/>
              </a:rPr>
              <a:t>I</a:t>
            </a:r>
            <a:r>
              <a:rPr b="0" lang="cs-CZ" sz="4800" spc="-1" strike="noStrike">
                <a:solidFill>
                  <a:srgbClr val="e3e3ff"/>
                </a:solidFill>
                <a:latin typeface="Arial"/>
              </a:rPr>
              <a:t>nstalace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0" y="4579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Komplexní dodávk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še firma se zabývá kompletními dodávkami elektroprací od návrhu, přes dodávku materiálu, realizaci, po vystavení revizních zpráv, včetně vyřízení příslušných povolení v Praze i okol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RNI – Josef Vint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Plískavě 111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02 00 Praha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. 603 536 8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-mail:ERNI.cz@seznam.c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1187280" y="4797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0" y="47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Provádí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ilno i slaboproudé rozvody včetně měření a regu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pojení nových odběrných míst, opravy nebo výměny kabelů, elektroměrových rozvaděčů a pojistkových skří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vaznost na další řemesla ( zedníci, instalatéři, malíři apod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38560" y="31060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26920" y="5229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3794" y="4313"/>
                </a:moveTo>
                <a:lnTo>
                  <a:pt x="17806" y="11319"/>
                </a:lnTo>
                <a:lnTo>
                  <a:pt x="3794" y="1832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0" y="5229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3794" y="11319"/>
                </a:moveTo>
                <a:lnTo>
                  <a:pt x="17806" y="4313"/>
                </a:lnTo>
                <a:lnTo>
                  <a:pt x="17806" y="1832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Pravidelné kontroly elektrických strojů a přístrojů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vádíme pravidelné odzkoušení el. stojů a přístrojů dle ČSN 33 15 00,  33 16 10 a 33 16 10 včetně evidence a protokol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38560" y="31060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1187280" y="458136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0" y="4581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Klimatiz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ravy a montáž klimatizačních jednot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timalizace chodu ( proměření a zaregulování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limatizační jednotky Split a Multisplit        ( tepelná čerpadla voda vzduch ),prozatím v jedná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118728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37:00Z</dcterms:created>
  <dc:creator>Pepik</dc:creator>
  <dc:description/>
  <dc:language>en-US</dc:language>
  <cp:lastModifiedBy>Pepik</cp:lastModifiedBy>
  <dcterms:modified xsi:type="dcterms:W3CDTF">2004-02-05T22:03:56Z</dcterms:modified>
  <cp:revision>20</cp:revision>
  <dc:subject/>
  <dc:title>Elektro Rekonstrukce Nové Instala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